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2DEF-11D9-4DEC-B1BC-F36A0430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FF4D-9D3C-4D99-927A-1C78F793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596A-CDEF-4302-865A-38DFAF97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B6B-2AE2-4DBE-BFDC-02374C9C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4AE1-B8D8-45CE-894A-141BADF0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1443-6772-45FA-901B-A6A0F1FE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1CD3-39C5-4C75-A640-A948793D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664C-B932-45AA-85EE-4CB2CACA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7485-3592-43AE-9009-A0BAD48C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BEB3-2DA7-4CA0-B900-FA30C77B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F524-0E2E-40BC-BDBC-2877136C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3EB1-9CAA-4026-9D5C-E5FF4DD0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6E03-1B3E-4C08-927A-CBFEC5F6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6810-9639-4C59-A2B7-46582619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034A-753A-437A-80B6-252F1185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5DA6-6EFD-4736-91B5-A24A6B27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DDE1-AE73-4918-8C0C-6A327B05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7FBA-E198-42EA-85F9-692B3BF2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503-47C7-43FA-972F-E9612D63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F996-F067-4AE6-960B-C2313A13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7088-4753-467E-84A4-E4D1766D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201-DC7C-4179-A49B-859F9BEE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A4A7-E61C-491E-9658-0D8AFB08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A733-5957-4B12-BFBC-42AAF01B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26CF-214A-4301-ABAB-9E3BD8A9B7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3C06-FEB8-4C73-98CF-D23204BFAD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OLf2RbxmzE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ASSESSMENT SAMPL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MITTED B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OLINE VAL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A VANIA C. LUCAGB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D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AMPLE: collag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8229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ample: Advocacy Vide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www.youtube.com/watch?v=GOLf2Rbxm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438280" y="2590920"/>
            <a:ext cx="512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EN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23:44:46Z</dcterms:created>
  <dc:creator>nave1386</dc:creator>
  <dc:description/>
  <dc:language>en-US</dc:language>
  <cp:lastModifiedBy>nave1386</cp:lastModifiedBy>
  <dcterms:modified xsi:type="dcterms:W3CDTF">2010-09-20T23:48:03Z</dcterms:modified>
  <cp:revision>1</cp:revision>
  <dc:subject/>
  <dc:title>ASSESSMENT SAMPLES</dc:title>
</cp:coreProperties>
</file>